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EBB4-8C87-489E-86EE-1A4C3A962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CEA8-7AF5-496B-B13F-5A1EA8E6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63F8-736B-430E-BE95-5335B63B7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AB9C-70F4-49EA-8ED8-9E62AFBAE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2CA8-D1FF-4252-BEB1-4D3D8F3EC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D97B-69F7-412D-A3F3-BEBF79BD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AE0C-038E-4486-8E00-4142A77B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B53A-5981-4C00-9819-84A9E4DB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51BB-B1D9-472C-A529-8B0C78ED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7D3E-6925-4673-8F29-4C583C0D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19CF-0C7F-475C-AC5C-52DBA7C8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E12E-144B-4699-994D-2DBA310C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F6F1-9876-44DB-9CAC-90474B1E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6E0C-05A6-4387-90C1-79946099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3221-9216-4F15-AA54-EBDDC160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D994-DCCC-457B-B89D-094426A0A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E773-AE45-493A-9BDD-908BFB93F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554B-D343-47B1-BDA0-C61CFCE3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4167-9563-4380-9728-13399BC7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A731-A6AA-4FC4-92E7-ED7BA767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4953-1A3E-4AAE-A158-F50D423E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3815-985F-4E3B-971D-5BDA2588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14C0-8B4B-4053-B428-715F0660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5665-1577-4437-9706-631D29F9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1BDC-CA45-4AB3-8977-1F4FA45F287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01E4-19C8-4615-BB66-14A79FAADA2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ngels Haven School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Unit Portfolio Present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Danica Hiyasmin Q. Poblet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Jaysa M. Ming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ur 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 more strategies with the help of technology that will motivate students to lear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nd ways to get my students to do more higher-order think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auging Student Needs Assessme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hat we will learn from the assess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our pupils think about the importance of learning the self help skill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our pupils think are the importance of discipline and independenc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hat our pupils will gain from the assess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y will be able to find various resources about bookmarks, quotations and friendship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quest for Feedbac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deas for helping children having self – determination and loyalty to friends and other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66"/>
                </a:solidFill>
                <a:latin typeface="Arial"/>
              </a:rPr>
              <a:t>Thank  You!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A Skill on Creating Bookmarks through Reading Quotations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Unit Summary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unit will tell a story about a loyal friend that made a heroic action. This will also discuss about quotations and bookmarks. Through reading quotations, the learners will make attractive bookmarks by writing friendship quotations that will nurture self – determination and loyalt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urriculum-Framing 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ssential Ques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the importance of loyalt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nit Questions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can we significantly use quotations by creating bookmark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can we use bookmarks to express our love with our friends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nt Questions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can we create artistic bookmarks through reading quotation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quotatio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bookmark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ision for Uni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creating this unit, we want our students 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low and high technologies that will allow them to know about bookmarks, quotations and value of having loyal friend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ing creative while they are working on the projec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ject Approach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s our students work on the project, they will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k together and share their learning's with pe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e a product that shows what they’ve learn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erience innovating creative and useful proj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21</a:t>
            </a:r>
            <a:r>
              <a:rPr b="0" lang="en-US" sz="3600" spc="-1" strike="noStrike" baseline="30000">
                <a:solidFill>
                  <a:srgbClr val="006666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Century Lear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udents will develop higher-order and 21</a:t>
            </a:r>
            <a:r>
              <a:rPr b="0" lang="en-US" sz="32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century skills in this unit as they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buClr>
                <a:srgbClr val="003366"/>
              </a:buClr>
              <a:buSzPct val="75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the Essential and Unit Questions to guide their daily work that will allow them to gain independence in every tasks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buClr>
                <a:srgbClr val="003366"/>
              </a:buClr>
              <a:buSzPct val="75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unicate and share their ideas with peers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buClr>
                <a:srgbClr val="003366"/>
              </a:buClr>
              <a:buSzPct val="75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the blog site to share their experienc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20:28:33Z</dcterms:created>
  <dc:creator>nave1386</dc:creator>
  <dc:description/>
  <dc:language>en-US</dc:language>
  <cp:lastModifiedBy>nave1386</cp:lastModifiedBy>
  <dcterms:modified xsi:type="dcterms:W3CDTF">2010-09-20T20:43:12Z</dcterms:modified>
  <cp:revision>17</cp:revision>
  <dc:subject/>
  <dc:title>Angels Haven School </dc:title>
</cp:coreProperties>
</file>